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24FF-3A8F-4B5B-B043-123C27FB07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EE0-A4AA-4504-9422-05007A4A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175-0E92-42A6-A690-76DB1F94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85C-ACFF-4D57-9FC5-0F710162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E92-E89F-4B26-BD53-0A7AF85E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C70-01EE-4005-8D7E-55986060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AA0-6A4F-4788-9F16-2C5D858A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508-41FA-4AE5-83E4-F3ED50C3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749-26F3-4075-A963-D9E2017A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123-72AD-4600-A020-ACD72AD3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B68-6699-40B9-BDB3-4FDD1A77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F47-550A-41A5-86B1-44CF391E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C85-17D8-4FC9-BA1D-AC0172A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7365-61F2-41A3-ADBF-7682F30B5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Lightning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s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Pj04004600000[1]"/>
          <p:cNvPicPr/>
          <p:nvPr/>
        </p:nvPicPr>
        <p:blipFill>
          <a:blip r:embed="rId1"/>
          <a:stretch/>
        </p:blipFill>
        <p:spPr>
          <a:xfrm>
            <a:off x="5029200" y="15228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822240" y="186516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08000" y="243828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Lightning transfers electrons from the atmosphere to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ons build up in clouds because wind causes them to r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gether (Charging by friction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harged ground or the nearest object (first Law of Electric Char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N00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17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gtng-hits-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ightnin"/>
          <p:cNvPicPr/>
          <p:nvPr/>
        </p:nvPicPr>
        <p:blipFill>
          <a:blip r:embed="rId1"/>
          <a:stretch/>
        </p:blipFill>
        <p:spPr>
          <a:xfrm>
            <a:off x="609480" y="271440"/>
            <a:ext cx="81536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64832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17680" y="1103400"/>
            <a:ext cx="374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Lightning R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j038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une14tower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18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cl-041004a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9279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3:01Z</dcterms:created>
  <dc:creator>Demetrios Xeroulis</dc:creator>
  <dc:description/>
  <dc:language>en-US</dc:language>
  <cp:lastModifiedBy>RomaK</cp:lastModifiedBy>
  <dcterms:modified xsi:type="dcterms:W3CDTF">2015-09-03T12:29:56Z</dcterms:modified>
  <cp:revision>18</cp:revision>
  <dc:subject/>
  <dc:title>How Lightning Works  </dc:title>
</cp:coreProperties>
</file>